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BAB1-19AE-4069-826C-BB40F104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B737-8257-4F30-A3A6-0AF94A9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3AA1-6F3E-4A0B-B54A-951B12D8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B71D-0397-4311-BF90-46F70E97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A44-7A43-4ABA-A3D1-517F2D16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9803-436F-470D-B010-2BB8816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699C-60D7-4E7B-9036-6D7A354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2777-083D-42F1-95E9-8A885D9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DD91-02F9-4E8D-85A8-4783035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D847-5A41-448A-9BF5-853C64A1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683F-D1E2-431C-9EE6-0687036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07A8-C149-4C15-9FA4-BCDF444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07B-DED8-420B-8DB8-1C49B05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32BD-C314-4341-B5B3-E557DC92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2CA7-F38C-4AF2-8ABE-6D0CAAA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10E-CC52-4457-9E6D-08BC614C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3400-8D75-4700-98F6-250436BF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BA39-A0A7-41D4-9657-18C35C5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965A-6EFB-4D16-95A5-8CA410FA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A0EC-E773-416C-9958-9AE15C3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4935-CC40-44F0-9619-8C1592C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4CE0-8DA7-4A2F-9D1B-052DD6D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8EFB-53ED-4DCC-95A3-48D6078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6EF0-A7AD-4059-A3E0-4BF144E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F60-A50C-4292-B31B-84E4CE47D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DB0-8A7A-46E5-97DD-6F45DA20F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e5ff"/>
                </a:solidFill>
                <a:latin typeface="Garamond"/>
              </a:rPr>
              <a:t>HENRY’S </a:t>
            </a:r>
            <a:r>
              <a:rPr b="0" lang="en-US" sz="6000" spc="-1" strike="noStrike">
                <a:solidFill>
                  <a:srgbClr val="e5e5ff"/>
                </a:solidFill>
                <a:latin typeface="Copperplate Gothic Bold"/>
              </a:rPr>
              <a:t>FREEDOM</a:t>
            </a:r>
            <a:r>
              <a:rPr b="0" lang="en-US" sz="6000" spc="-1" strike="noStrike">
                <a:solidFill>
                  <a:srgbClr val="e5e5ff"/>
                </a:solidFill>
                <a:latin typeface="Garamond"/>
              </a:rPr>
              <a:t> BOX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Bold"/>
              </a:rPr>
              <a:t>Retold B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pperplate Gothic Bold"/>
              </a:rPr>
              <a:t>JOI SMI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laves weren’t allowed to know their birthdays so Henry Brown didn’t. Henry and his brothers and sisters worked in a mansion with their master lived. Henry's master was good to him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00Z</dcterms:created>
  <dc:creator>test</dc:creator>
  <dc:description/>
  <dc:language>en-US</dc:language>
  <cp:lastModifiedBy>test</cp:lastModifiedBy>
  <dcterms:modified xsi:type="dcterms:W3CDTF">2011-03-02T19:44:16Z</dcterms:modified>
  <cp:revision>4</cp:revision>
  <dc:subject/>
  <dc:title>HENRY”S FREEDOM BOX</dc:title>
</cp:coreProperties>
</file>